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951-CE97-473A-8BB5-3A3C6DD1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3C3-E066-49D4-9E9B-A686CCDD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8929F-96FC-4E72-9371-C2CEC2B3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61411-09CB-43CE-ACEF-B02939A1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C3F4F-8CDE-49F6-AA1E-4356E55C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EBA2A-15A8-4902-8C95-CF882545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0429B-F256-4289-A431-9B7E7058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BC68C-CAF5-468C-9103-7BB804AB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BDBAA-E21E-4E02-BCBB-32F7DF9D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A6475-C1CE-4E71-8F9B-8768CA99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1E6EA-347C-453F-A58A-F6571195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373DF-DA39-4B20-91D3-C68AD43B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DE3-02A6-436D-B2E3-A9AF1A24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640F8-86FD-4DA0-B8DE-E584AD98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18969-401E-4537-88E1-F2B266D1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D9031-00FD-4D89-977C-645B2194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EBCAB-F874-4456-AD01-7670E1F9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87E2D-3288-4FBD-9213-869A3038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56195-6BEC-43AB-83E7-67398236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11D25-0A93-45DC-B62A-2DE26D26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4C60B-D3A1-4A37-BA6B-D49EFB5F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E39AF-C7D3-425B-A711-566B7C47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633C5-B512-4ABE-9DB8-227BB538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07E-5CC1-45F9-82D9-BB08261E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3B5DF-4AFD-4406-B31C-452A09BA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4DC87-BE8C-41B5-B780-F146B46B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E7B3F-67B6-4DE9-9875-50AC4637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0416D-0B2E-424B-A705-9B8DE378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CCDC2-C574-4DB6-9043-35754601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7B469-D305-48E9-B0E0-38F31AA8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F4FB2-DB82-488B-A25E-B12D8213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2C78C-4239-471E-A991-3261C490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E75BD-FC24-44B8-8F92-2CFB6F08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61564-E328-41D0-AAAE-A07C9F63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CC33-367C-4CA3-85A2-1C677EF3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AFD04-B93A-47F0-89DB-41BE2476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F9193-317E-4C85-B064-1FC4919C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AA883-6CDC-46EC-A22E-CDBBAE35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1384C-8647-4DF2-A0DC-2DCF3128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36233-D312-403A-9EC2-138ABAA8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1329D-9749-4592-9833-8915ABE8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0360B-2682-4F84-A759-B27393D5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B0651-EF40-452F-87BB-9E8C5F50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F0797-BD73-4606-9B5A-3A33D841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EB275-21F9-4C52-934C-B8EC9047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A356-2BF7-44C7-9D2A-BBB12B13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8F121-E0B8-44F2-8388-7748B158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DD45A-112F-4CB0-9A02-195B2B24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E0841-C9F7-4911-925E-B1A2774F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BE9A4-B35B-434E-99C0-9D5F018F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46F8B-43ED-4032-AFD8-DCFB8CD3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2F8C-38A7-46F0-9321-F1BC9A25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0F23-A353-4DCA-A90A-43838755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5A41-2059-4713-919E-EE855E57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F2EE-6323-4AFE-A605-F9817856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B077-319E-48A0-82BF-2E7B4421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DB9-45D5-475F-9BDA-FE55EBF1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00B0-0C53-455B-A146-8BCFCCA9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6A98-6C57-4AFC-BB39-4E66952D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4D5D-A98A-46E9-B130-B0334A0F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113A-13DB-4CA3-8AB5-583D0CA0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4897-F977-42ED-B1D2-67B7EA2E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6C382-BA97-4B22-8825-CC489CFC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8A7C-AAEA-48DF-A20B-D069D37A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32D69-A791-4D2E-9121-8DEFE668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797D-AAAA-4013-9D8E-E8AA73C4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EC47-0D4D-411B-A4FA-633C747A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D45-08D1-4992-A599-75CC5EB2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EFA65-05B6-4401-8B37-12076137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AE50-666E-4E12-93F6-449E744C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7939E-7E77-4D1B-B42B-42A4C5F5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71609-3A20-4ADA-8762-9B98A1ED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17694-6A0B-4DD7-9234-E74309BD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B8905-FE64-4812-B18B-ACA8F806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DEF48-8688-4A49-A324-B3AF573D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FDAE5-F875-4A7C-BA5A-42800A4C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0C87B-2FBC-4CCB-B66B-58C90D02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DAC34-58F0-40E2-A97A-095088FC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D474-2ACE-4B9E-8D30-F7C0A390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9A0D-F232-414A-81AC-F7210738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E1A27-5767-42FC-9941-280E90E6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D8FB0-4DE2-4B31-AD98-09B3342B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C8E7A-6443-4A14-9526-875844BD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1CFF7-62CE-415C-B4AE-E5DB0D72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E7757-7A00-467E-862E-6EEF3E21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51797-56CF-4553-B17E-B26F9204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D56C3-E978-4E67-90D5-1ACA85C7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9942F-A5E6-4281-AC69-45506B74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0A0B1-7B11-4545-AF50-B78F0519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C68-08BC-4101-A2AD-C217875D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671B5-19BA-42EC-9C6E-5B5CC5F8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E525E-80B7-4AF2-8D80-A5D985A6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7FCA3-20B2-4C56-8D12-B7883422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20F08-495B-4EF1-9001-A2621F40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20BC4-74A2-487E-81F1-8A08D7F5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6E9D7-3770-48FC-8DD2-6C344816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BB888-E829-40EC-8C17-95FC812F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F5EF1-296B-47C8-AEDD-98AF944A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EA909-0D15-4212-B243-1C328B6A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1CEB9-601B-4FEE-A8F0-4FA891C8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9A96-10C2-4296-BE18-77A3163D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E39A1-9E2C-408B-82DE-E76A033B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72CFB-6F10-453A-860D-AF89848C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435FB-04EC-4574-9B78-999CEF49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DE3BE-1C61-4FEE-B6D3-D14A66D9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71E0F-00D9-44F8-8C09-E4D566F9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86965-D9D0-41E6-9D89-C8AC954D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4E6FF-D9C9-48C4-900C-D5CD7D08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B8516-C43B-4E10-80BD-E9C66310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79AAB-C866-43BC-B92D-6605F9B1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5ABDF-59E8-4C69-A888-D45C7B62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3C6-B5AC-4594-A54A-CC52C825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20AB9-A3E4-46FA-893D-1F790034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E941D-3FE3-440D-8226-7C7296E3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C4096-AF7C-4B37-911B-14A26830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7815F-1E2C-4C2E-B77A-8F736291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4F346-44E9-4B98-951F-7248B985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D46B5-4201-416A-B221-08EBF47C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70838-679D-4282-9A59-595F9DF7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F8F46-A4F1-42BF-B901-766E7ADD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E38B8-EBE7-4F09-B62C-9566E0A2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514A0-503B-47C8-9478-5BA66000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006-E5FD-47CF-86D8-85214F54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CB0EC-02E6-4C8E-9A2B-A35ECBE7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124B1-3A7A-4455-96D4-25FC1008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E0F39-623A-44B1-99DF-981D336A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9EE7E-8B10-441A-A277-FD0FC939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99742-896F-4EB4-BD16-46ED5190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80A2D-11EC-4968-9143-B8A33724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D5D85-4A8C-443F-9E5E-47372FB4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61829-1C45-4B63-81ED-39B28F9C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B9A6D-1F82-4026-8532-670C21CD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8C0B4-5CDE-4C7E-87F2-EC2597D8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D7E-1F86-4FEA-A880-780BBB4C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66064-13D4-44C4-81B7-7161BDD2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9F22C-5925-42D2-8128-8189A3A6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6C77D-222D-46A1-9289-FF9C173E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7386A-ABA4-4EE6-ACC2-8AC24011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CAB0B-E15F-4910-8129-5B7DECFC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5D178-E5CC-4532-B7AC-510B9874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1C429-6451-4B64-B67A-3042849E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1C311-05C5-4465-B5A2-8669AE82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06B03-ACFC-4238-BB98-06BF2F76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C2379-588F-491B-A4F4-909D2A3C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6BEF-EDEA-4B30-A4D4-8711BD9A739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AFEB-B1CE-42AA-A42B-3F125B7278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E6E9-D484-4362-8975-E137A4214C9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853D-8143-4AFA-AB0D-B622A5E25DE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DE2D-5CD1-4074-8AB2-3503148F64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C650-041F-43F7-B42C-ED73845E2D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1FFB-AB3C-4946-AEE2-238CBBB2AE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39EB-6315-4ED9-B95F-1A9D8F935F1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FCE4-13A0-413F-877E-96AFC794F2D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1378-DC89-404F-9B6B-0EA63D35F93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53FD-0A5D-44FD-B732-F248E58F95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7E1B-D088-41F0-BE54-92EAC72BC29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29 Čuj, Otče, prosby h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, Otče, prosby hl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kloň sa k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s nami v tento č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môž 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, Otče, prosby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s nami v tento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o prijmi ná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 odpusť n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š srdcia strápen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iedne a zranen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teba stratené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rád nás m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, Otče, prosby hl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kloň sa k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s nami v tento č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môž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by nás nepriateľ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klamať, zničiť chc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, drahý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ysloboď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pravú múdrosť da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 vždy sa priznáv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vo sprevádz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s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, Otče, prosby hl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kloň sa k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s nami v tento č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môž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deľ nám z mil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iere stá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e ísť z vďačnos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ebou l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 viesť nás, Pane, s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buď vždy svetlom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smieme žiť raz t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večný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9:01:15Z</dcterms:modified>
  <cp:revision>22</cp:revision>
  <dc:subject/>
  <dc:title>Je veľký náš Pán, on slávy je Kráľ Nech do všetkých strán  spev vrúcnych znie chvál.</dc:title>
</cp:coreProperties>
</file>